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102-EC3B-486C-81E0-10FD0B0D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281-0237-4588-9CE4-0B9AFA9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DBB-81CA-4393-BA1F-4EE5CA0B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14E-7502-4E3F-8403-25BCE00C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3F31-8253-4AA7-8D61-9EA05338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EAE2-7EEE-4425-80E4-442CF49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5C2-DEB1-46B7-83C6-BECCDCE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F9D-4BFA-434B-8A9B-90BD4C5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6F60-E861-47EC-972A-B4338FB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291-BA3A-45F0-B74A-DABF67D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759C-32A9-4E86-B367-ACFB1DB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EDC-A23E-4C11-A219-EB4C660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588D-F432-4B19-9686-77DDD3F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9362-ED71-4DCD-ABC5-7EC87E1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3D1-8CBC-4814-AEFF-BF155A8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840-DA09-4417-AE5C-B5CA8622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168E-2A71-46BD-BA72-99EB54C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DC8-4420-4DD0-87B6-006E6A4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E70-CD65-4BE6-BAE4-C86C4AD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215-5627-48EC-BA80-F29CAFC4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581-3163-4E13-9924-17DD10F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295-7820-4529-B79A-6B7254F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DCF-75AF-45AE-BC60-68D34BB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F81-F2AB-4AC8-AF63-2EF4781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F42D-9022-425F-B50C-BC05FF98F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E68-1A54-41A2-B632-C1C1457E5F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685800" y="0"/>
            <a:ext cx="7391520" cy="41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ynthe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295280" y="2133720"/>
            <a:ext cx="7086600" cy="40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vi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600200" y="9907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 quotient is: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2209680"/>
          <a:ext cx="7696440" cy="14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69644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1447920" y="4495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to place the remainder over the divisor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304920" y="4191120"/>
            <a:ext cx="8100720" cy="1549440"/>
            <a:chOff x="304920" y="4191120"/>
            <a:chExt cx="8100720" cy="1549440"/>
          </a:xfrm>
        </p:grpSpPr>
        <p:graphicFrame>
          <p:nvGraphicFramePr>
            <p:cNvPr id="184" name="Object 5"/>
            <p:cNvGraphicFramePr/>
            <p:nvPr/>
          </p:nvGraphicFramePr>
          <p:xfrm>
            <a:off x="304920" y="4191120"/>
            <a:ext cx="861840" cy="15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191120"/>
                      <a:ext cx="861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6"/>
            <p:cNvGraphicFramePr/>
            <p:nvPr/>
          </p:nvGraphicFramePr>
          <p:xfrm>
            <a:off x="7543800" y="4191120"/>
            <a:ext cx="861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4191120"/>
                      <a:ext cx="861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19320" y="9144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2133720" y="2362320"/>
          <a:ext cx="31636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62320"/>
                    <a:ext cx="31636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4"/>
          <p:cNvSpPr/>
          <p:nvPr/>
        </p:nvSpPr>
        <p:spPr>
          <a:xfrm>
            <a:off x="2133720" y="58672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2438280" y="5257800"/>
          <a:ext cx="383544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5257800"/>
                    <a:ext cx="3835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2286000" y="4191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5" name="Object 7"/>
          <p:cNvGraphicFramePr/>
          <p:nvPr/>
        </p:nvGraphicFramePr>
        <p:xfrm>
          <a:off x="2514600" y="3276720"/>
          <a:ext cx="314316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276720"/>
                    <a:ext cx="31431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Let’s look at how to do this 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using the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822240" y="2203560"/>
          <a:ext cx="748656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203560"/>
                    <a:ext cx="74865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"/>
          <p:cNvSpPr/>
          <p:nvPr/>
        </p:nvSpPr>
        <p:spPr>
          <a:xfrm>
            <a:off x="685800" y="3352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order to use synthetic division thes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 things must happ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523880" y="4267080"/>
            <a:ext cx="30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must be a coefficient for every possible power of the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5597640" y="4267080"/>
            <a:ext cx="289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visor must have a leading coefficient of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90400" y="42670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917960" y="42670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19320" y="685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 #1: Write the terms of the polynomial so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the degrees are in descending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914400" y="2666880"/>
          <a:ext cx="71755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7175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380880" y="4114800"/>
          <a:ext cx="71460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14800"/>
                    <a:ext cx="714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1295280" y="4267080"/>
          <a:ext cx="685800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267080"/>
                    <a:ext cx="6858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1600200" y="3808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Write the constan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the divisor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x- a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the left and write dow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coeffici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1066680" y="2286000"/>
          <a:ext cx="6931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931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4"/>
          <p:cNvGraphicFramePr/>
          <p:nvPr/>
        </p:nvGraphicFramePr>
        <p:xfrm>
          <a:off x="1828800" y="3892680"/>
          <a:ext cx="5440320" cy="31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92680"/>
                    <a:ext cx="544032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5"/>
          <p:cNvSpPr/>
          <p:nvPr/>
        </p:nvSpPr>
        <p:spPr>
          <a:xfrm>
            <a:off x="2438280" y="57150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23880" y="7621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Bring down the first coefficient,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Object 10"/>
          <p:cNvGraphicFramePr/>
          <p:nvPr/>
        </p:nvGraphicFramePr>
        <p:xfrm>
          <a:off x="2362320" y="1828800"/>
          <a:ext cx="419076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1907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9"/>
          <p:cNvGrpSpPr/>
          <p:nvPr/>
        </p:nvGrpSpPr>
        <p:grpSpPr>
          <a:xfrm>
            <a:off x="1371600" y="3962520"/>
            <a:ext cx="7391160" cy="764280"/>
            <a:chOff x="1371600" y="3962520"/>
            <a:chExt cx="7391160" cy="764280"/>
          </a:xfrm>
        </p:grpSpPr>
        <p:sp>
          <p:nvSpPr>
            <p:cNvPr id="127" name="Text Box 7"/>
            <p:cNvSpPr/>
            <p:nvPr/>
          </p:nvSpPr>
          <p:spPr>
            <a:xfrm>
              <a:off x="1371600" y="3962520"/>
              <a:ext cx="739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Step #4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: Multiply the first coefficient by </a:t>
              </a:r>
              <a:r>
                <a:rPr b="0" i="1" lang="en-US" sz="2800" spc="-1" strike="noStrike">
                  <a:solidFill>
                    <a:srgbClr val="3333cc"/>
                  </a:solidFill>
                  <a:latin typeface="Times New Roman"/>
                </a:rPr>
                <a:t>r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(3*5).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28" name="Object 8"/>
            <p:cNvGraphicFramePr/>
            <p:nvPr/>
          </p:nvGraphicFramePr>
          <p:xfrm>
            <a:off x="7827480" y="4329720"/>
            <a:ext cx="483120" cy="31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27480" y="4329720"/>
                      <a:ext cx="483120" cy="3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0" name="Object 11"/>
          <p:cNvGraphicFramePr/>
          <p:nvPr/>
        </p:nvGraphicFramePr>
        <p:xfrm>
          <a:off x="2338560" y="4600440"/>
          <a:ext cx="4392360" cy="22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8560" y="4600440"/>
                    <a:ext cx="43923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12"/>
          <p:cNvSpPr/>
          <p:nvPr/>
        </p:nvSpPr>
        <p:spPr>
          <a:xfrm>
            <a:off x="2514600" y="5181480"/>
            <a:ext cx="6094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3505320" y="5867280"/>
            <a:ext cx="3808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7"/>
          <p:cNvSpPr/>
          <p:nvPr/>
        </p:nvSpPr>
        <p:spPr>
          <a:xfrm>
            <a:off x="1828800" y="6858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5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After multiplying in the diagonals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add the colum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1752480" y="3352680"/>
          <a:ext cx="4273560" cy="21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427356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Group 24"/>
          <p:cNvGrpSpPr/>
          <p:nvPr/>
        </p:nvGrpSpPr>
        <p:grpSpPr>
          <a:xfrm>
            <a:off x="3048120" y="2590920"/>
            <a:ext cx="1447200" cy="2057400"/>
            <a:chOff x="3048120" y="2590920"/>
            <a:chExt cx="1447200" cy="2057400"/>
          </a:xfrm>
        </p:grpSpPr>
        <p:sp>
          <p:nvSpPr>
            <p:cNvPr id="138" name="Line 20"/>
            <p:cNvSpPr/>
            <p:nvPr/>
          </p:nvSpPr>
          <p:spPr>
            <a:xfrm>
              <a:off x="3875040" y="3581640"/>
              <a:ext cx="0" cy="1066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3048120" y="2590920"/>
              <a:ext cx="144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dd the colum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Line 22"/>
          <p:cNvSpPr/>
          <p:nvPr/>
        </p:nvSpPr>
        <p:spPr>
          <a:xfrm>
            <a:off x="1981080" y="41148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2895480" y="4648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5"/>
          <p:cNvSpPr/>
          <p:nvPr/>
        </p:nvSpPr>
        <p:spPr>
          <a:xfrm>
            <a:off x="4648320" y="449568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1741320" y="304920"/>
          <a:ext cx="627084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04920"/>
                    <a:ext cx="627084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2"/>
          <p:cNvGraphicFramePr/>
          <p:nvPr/>
        </p:nvGraphicFramePr>
        <p:xfrm>
          <a:off x="1523880" y="2438280"/>
          <a:ext cx="5791320" cy="29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438280"/>
                    <a:ext cx="579132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23"/>
          <p:cNvSpPr/>
          <p:nvPr/>
        </p:nvSpPr>
        <p:spPr>
          <a:xfrm>
            <a:off x="1828800" y="3200400"/>
            <a:ext cx="1600200" cy="1600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24"/>
          <p:cNvSpPr/>
          <p:nvPr/>
        </p:nvSpPr>
        <p:spPr>
          <a:xfrm flipV="1">
            <a:off x="4343400" y="4190760"/>
            <a:ext cx="609480" cy="609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5562720" y="2743200"/>
            <a:ext cx="0" cy="1752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23880" y="5562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y the diagonals, add the colum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525780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38"/>
          <p:cNvGraphicFramePr/>
          <p:nvPr/>
        </p:nvGraphicFramePr>
        <p:xfrm>
          <a:off x="4724280" y="4419720"/>
          <a:ext cx="7812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419720"/>
                    <a:ext cx="7812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47920" y="990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ep #7: Repeat the same procedure as step #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24"/>
          <p:cNvGraphicFramePr/>
          <p:nvPr/>
        </p:nvGraphicFramePr>
        <p:xfrm>
          <a:off x="990720" y="2362320"/>
          <a:ext cx="655308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65530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25"/>
          <p:cNvSpPr/>
          <p:nvPr/>
        </p:nvSpPr>
        <p:spPr>
          <a:xfrm>
            <a:off x="1295280" y="3352680"/>
            <a:ext cx="6098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26"/>
          <p:cNvSpPr/>
          <p:nvPr/>
        </p:nvSpPr>
        <p:spPr>
          <a:xfrm flipV="1">
            <a:off x="2438280" y="3809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27"/>
          <p:cNvSpPr/>
          <p:nvPr/>
        </p:nvSpPr>
        <p:spPr>
          <a:xfrm flipV="1">
            <a:off x="358128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28"/>
          <p:cNvSpPr/>
          <p:nvPr/>
        </p:nvSpPr>
        <p:spPr>
          <a:xfrm flipV="1">
            <a:off x="464832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29"/>
          <p:cNvSpPr/>
          <p:nvPr/>
        </p:nvSpPr>
        <p:spPr>
          <a:xfrm flipV="1">
            <a:off x="609588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4343400" y="1905120"/>
            <a:ext cx="1218960" cy="2361600"/>
            <a:chOff x="4343400" y="1905120"/>
            <a:chExt cx="1218960" cy="2361600"/>
          </a:xfrm>
        </p:grpSpPr>
        <p:sp>
          <p:nvSpPr>
            <p:cNvPr id="163" name="Text Box 31"/>
            <p:cNvSpPr/>
            <p:nvPr/>
          </p:nvSpPr>
          <p:spPr>
            <a:xfrm>
              <a:off x="434340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Line 32"/>
            <p:cNvSpPr/>
            <p:nvPr/>
          </p:nvSpPr>
          <p:spPr>
            <a:xfrm>
              <a:off x="495288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Line 34"/>
          <p:cNvSpPr/>
          <p:nvPr/>
        </p:nvSpPr>
        <p:spPr>
          <a:xfrm>
            <a:off x="1295280" y="3048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7010280" y="1905120"/>
            <a:ext cx="1218960" cy="2361600"/>
            <a:chOff x="7010280" y="1905120"/>
            <a:chExt cx="1218960" cy="2361600"/>
          </a:xfrm>
        </p:grpSpPr>
        <p:sp>
          <p:nvSpPr>
            <p:cNvPr id="167" name="Text Box 36"/>
            <p:cNvSpPr/>
            <p:nvPr/>
          </p:nvSpPr>
          <p:spPr>
            <a:xfrm>
              <a:off x="701028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>
              <a:off x="761976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3048120" y="1905120"/>
            <a:ext cx="1218960" cy="2361600"/>
            <a:chOff x="3048120" y="1905120"/>
            <a:chExt cx="1218960" cy="2361600"/>
          </a:xfrm>
        </p:grpSpPr>
        <p:sp>
          <p:nvSpPr>
            <p:cNvPr id="170" name="Text Box 39"/>
            <p:cNvSpPr/>
            <p:nvPr/>
          </p:nvSpPr>
          <p:spPr>
            <a:xfrm>
              <a:off x="304812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40"/>
            <p:cNvSpPr/>
            <p:nvPr/>
          </p:nvSpPr>
          <p:spPr>
            <a:xfrm>
              <a:off x="365760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41"/>
          <p:cNvGrpSpPr/>
          <p:nvPr/>
        </p:nvGrpSpPr>
        <p:grpSpPr>
          <a:xfrm>
            <a:off x="5715000" y="1905120"/>
            <a:ext cx="1218960" cy="2361600"/>
            <a:chOff x="5715000" y="1905120"/>
            <a:chExt cx="1218960" cy="2361600"/>
          </a:xfrm>
        </p:grpSpPr>
        <p:sp>
          <p:nvSpPr>
            <p:cNvPr id="173" name="Text Box 42"/>
            <p:cNvSpPr/>
            <p:nvPr/>
          </p:nvSpPr>
          <p:spPr>
            <a:xfrm>
              <a:off x="571500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43"/>
            <p:cNvSpPr/>
            <p:nvPr/>
          </p:nvSpPr>
          <p:spPr>
            <a:xfrm>
              <a:off x="632448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Line 44"/>
          <p:cNvSpPr/>
          <p:nvPr/>
        </p:nvSpPr>
        <p:spPr>
          <a:xfrm>
            <a:off x="129528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5"/>
          <p:cNvSpPr/>
          <p:nvPr/>
        </p:nvSpPr>
        <p:spPr>
          <a:xfrm>
            <a:off x="1295280" y="2895480"/>
            <a:ext cx="3886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7621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Step #8: Write the quot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2133720"/>
            <a:ext cx="792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s along the bottom are coefficients of the power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descending order, starting with the power that is one less than that of the dividend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Karen</cp:lastModifiedBy>
  <dcterms:modified xsi:type="dcterms:W3CDTF">2012-03-19T06:40:30Z</dcterms:modified>
  <cp:revision>47</cp:revision>
  <dc:subject/>
  <dc:title>No Slide Title</dc:title>
</cp:coreProperties>
</file>